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31.gif" ContentType="image/gif"/>
  <Override PartName="/ppt/media/image22.wmf" ContentType="image/x-wmf"/>
  <Override PartName="/ppt/media/image19.png" ContentType="image/png"/>
  <Override PartName="/ppt/media/image8.wmf" ContentType="image/x-wmf"/>
  <Override PartName="/ppt/media/image3.gif" ContentType="image/gif"/>
  <Override PartName="/ppt/media/image5.jpeg" ContentType="image/jpeg"/>
  <Override PartName="/ppt/media/image20.wmf" ContentType="image/x-wmf"/>
  <Override PartName="/ppt/media/image32.jpeg" ContentType="image/jpeg"/>
  <Override PartName="/ppt/media/image26.jpeg" ContentType="image/jpeg"/>
  <Override PartName="/ppt/media/image27.png" ContentType="image/png"/>
  <Override PartName="/ppt/media/image12.jpeg" ContentType="image/jpeg"/>
  <Override PartName="/ppt/media/image4.png" ContentType="image/png"/>
  <Override PartName="/ppt/media/image10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9.jpeg" ContentType="image/jpeg"/>
  <Override PartName="/ppt/media/projctor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las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25.gif" ContentType="image/gif"/>
  <Override PartName="/ppt/media/image21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314-8BAD-444E-B39D-8100739E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C70-9291-4CB4-AFB0-A8B49E18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80F-2E99-455B-B7BD-46CEB106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B09-D1FF-4E7B-A5B7-ED62E33A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00A1-C61D-45BB-ADEF-5AA8C9DF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980-9DBE-477F-AD18-7AACFD8F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5AE-C600-4753-8C7E-95C8DACE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91F-C1A4-4C03-8A08-D22AE56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BA37-CDA9-419F-837E-0825C327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698A-0036-4407-83AC-9836E79C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E5B7-314A-41E6-A653-F21254B9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2F23-5A68-4B63-AF9D-C7899373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7493-51B4-4D09-8FD5-BE7FA16E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91E9-6970-4790-8FD5-2C30227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6B0-42D2-4556-A340-F239E361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2BE-F5D1-4522-B0AB-541F769E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D1A-4C29-4891-B9A9-DCAAD1B0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A1B6-CE87-4B09-B426-0639588F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5F4A-B040-4267-BE10-9668898D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ADF3-FD0F-4C11-9820-9F59AB64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FCA3-50B2-49E6-9DC8-F66E126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7784-8465-4329-94CB-E3F82FB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3B4-E4D4-40DD-856D-D161BFF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A482-31E2-4FC8-99DB-6F05CAC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D3B6-8A93-4D8E-A350-12537A7F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BBE6-EFA9-4B73-BE08-7C67093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D733B-83E9-406A-B2A7-55694E31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C3DD7-0852-4D9D-8582-19DD35F4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EF28-918A-4C61-A334-BF869DCB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084B-1366-40BC-BAE0-A6C4EB31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4453-BE23-4CE4-A02C-16DCE92B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496F-0081-431F-B741-D3C80342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FE04-1D5A-4417-81CD-09CD084E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1AA-CA09-4792-BE33-38A6C36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7159B-5589-4DDD-A600-7710802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1433-B959-4300-BDBC-9367CA34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67EE-EA78-464E-BFE3-E5078AFE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5719D-E9C4-481B-9312-AFB40C4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E0C6-F299-4004-BAC4-E621CF81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BAE16-FE89-4FD7-A756-54BD6B8E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F122-F688-46DD-BCD2-D7173AB5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FE1E-C9A1-4B1A-B5CF-7BF14AFF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5080-8DB2-49EC-A46E-95D37ABA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4BE0-A237-4103-947C-52C91E1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FAB3-BA32-44FE-859F-D9B4BB7C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9DC-22F2-4535-B6D6-54A7FA24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A13-D9FE-416D-80EE-C9DFC6C3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601-C5F0-4D89-8080-DF511C9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96F5-F31F-426F-AB2A-0B640462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46B-ED2E-4FEC-9BD7-BA1257E16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ACA4-A48A-4D6B-930F-237DFC282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EAE4-DBA7-456A-90E7-CE4173DD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audio" Target="../media/lase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wsp.com.cn/product-detail/112/13357.htm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ywsp.com.cn/product-detail/112/13357.html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com/imgres?imgurl=http://www.satohigashi.town.satosho.okayama.jp/vg/english/resources/imgs/tn/eraser.gif&amp;imgrefurl=http://www.satohigashi.town.satosho.okayama.jp/vg/satoshou/higashi/2003/class/4/1/ressun.htm&amp;h=150&amp;w=200&amp;sz=2&amp;tbnid=xF7W0WDgoy4J:&amp;tbnh=74&amp;tbnw=98&amp;start=10&amp;prev=/images%3Fq%3Deraser%26hl%3Dzh-CN%26lr%3D%26newwindow%3D1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google.com/imgres?imgurl=http://www307.pair.com/ejs/plal1/pencil.jpg&amp;imgrefurl=http://www307.pair.com/ejs/plal1/&amp;h=305&amp;w=305&amp;sz=11&amp;tbnid=_oc3wR3tcj0J:&amp;tbnh=112&amp;tbnw=112&amp;start=3&amp;prev=/images%3Fq%3Dpencil%26hl%3Dzh-CN%26lr%3D%26newwindow%3D1" TargetMode="External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6.jpeg"/><Relationship Id="rId4" Type="http://schemas.openxmlformats.org/officeDocument/2006/relationships/image" Target="../media/image17.jpeg"/><Relationship Id="rId5" Type="http://schemas.openxmlformats.org/officeDocument/2006/relationships/image" Target="../media/image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Wb02043__gif"/>
          <p:cNvPicPr/>
          <p:nvPr/>
        </p:nvPicPr>
        <p:blipFill>
          <a:blip r:embed="rId1"/>
          <a:stretch/>
        </p:blipFill>
        <p:spPr>
          <a:xfrm>
            <a:off x="0" y="-2259000"/>
            <a:ext cx="9524880" cy="11582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pencil"/>
          <p:cNvPicPr/>
          <p:nvPr/>
        </p:nvPicPr>
        <p:blipFill>
          <a:blip r:embed="rId2"/>
          <a:stretch/>
        </p:blipFill>
        <p:spPr>
          <a:xfrm>
            <a:off x="2362320" y="3657600"/>
            <a:ext cx="373356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379080" y="1676520"/>
            <a:ext cx="823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6699"/>
                </a:solidFill>
                <a:latin typeface="Times New Roman"/>
              </a:rPr>
              <a:t>Is this your pencil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80840" y="0"/>
            <a:ext cx="363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6600"/>
                </a:solidFill>
                <a:latin typeface="Times New Roman"/>
              </a:rPr>
              <a:t>Unit 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796000" y="522936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66ff"/>
                </a:solidFill>
                <a:latin typeface="Times New Roman"/>
              </a:rPr>
              <a:t>Period f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971640" y="404640"/>
            <a:ext cx="4967280" cy="3889440"/>
          </a:xfrm>
          <a:prstGeom prst="rect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Fou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 Note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is your note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ease call 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 # 235-028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"/>
          <p:cNvSpPr/>
          <p:nvPr/>
        </p:nvSpPr>
        <p:spPr>
          <a:xfrm>
            <a:off x="3635280" y="907920"/>
            <a:ext cx="2305080" cy="793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33520" y="4648320"/>
            <a:ext cx="7315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1. What is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2. Who found it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3. What’s her telephone numb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711960" y="522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045480" y="602136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235-02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709440" y="45813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A not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reeform 2"/>
          <p:cNvSpPr/>
          <p:nvPr/>
        </p:nvSpPr>
        <p:spPr>
          <a:xfrm>
            <a:off x="1676520" y="0"/>
            <a:ext cx="4478040" cy="4459320"/>
          </a:xfrm>
          <a:custGeom>
            <a:avLst/>
            <a:gdLst>
              <a:gd name="textAreaLeft" fmla="*/ 0 w 4478040"/>
              <a:gd name="textAreaRight" fmla="*/ 4478400 w 4478040"/>
              <a:gd name="textAreaTop" fmla="*/ 0 h 4459320"/>
              <a:gd name="textAreaBottom" fmla="*/ 4459680 h 4459320"/>
            </a:gdLst>
            <a:ahLst/>
            <a:rect l="textAreaLeft" t="textAreaTop" r="textAreaRight" b="textAreaBottom"/>
            <a:pathLst>
              <a:path w="2821" h="2281">
                <a:moveTo>
                  <a:pt x="292" y="212"/>
                </a:moveTo>
                <a:cubicBezTo>
                  <a:pt x="309" y="273"/>
                  <a:pt x="293" y="357"/>
                  <a:pt x="344" y="395"/>
                </a:cubicBezTo>
                <a:cubicBezTo>
                  <a:pt x="377" y="420"/>
                  <a:pt x="418" y="357"/>
                  <a:pt x="449" y="330"/>
                </a:cubicBezTo>
                <a:cubicBezTo>
                  <a:pt x="506" y="282"/>
                  <a:pt x="551" y="222"/>
                  <a:pt x="606" y="172"/>
                </a:cubicBezTo>
                <a:cubicBezTo>
                  <a:pt x="647" y="134"/>
                  <a:pt x="693" y="103"/>
                  <a:pt x="737" y="68"/>
                </a:cubicBezTo>
                <a:cubicBezTo>
                  <a:pt x="777" y="148"/>
                  <a:pt x="812" y="302"/>
                  <a:pt x="868" y="356"/>
                </a:cubicBezTo>
                <a:cubicBezTo>
                  <a:pt x="928" y="234"/>
                  <a:pt x="953" y="166"/>
                  <a:pt x="1090" y="120"/>
                </a:cubicBezTo>
                <a:cubicBezTo>
                  <a:pt x="1125" y="261"/>
                  <a:pt x="1190" y="342"/>
                  <a:pt x="1208" y="487"/>
                </a:cubicBezTo>
                <a:cubicBezTo>
                  <a:pt x="1221" y="452"/>
                  <a:pt x="1230" y="415"/>
                  <a:pt x="1247" y="382"/>
                </a:cubicBezTo>
                <a:cubicBezTo>
                  <a:pt x="1270" y="336"/>
                  <a:pt x="1305" y="298"/>
                  <a:pt x="1326" y="251"/>
                </a:cubicBezTo>
                <a:cubicBezTo>
                  <a:pt x="1427" y="24"/>
                  <a:pt x="1301" y="222"/>
                  <a:pt x="1378" y="107"/>
                </a:cubicBezTo>
                <a:cubicBezTo>
                  <a:pt x="1391" y="146"/>
                  <a:pt x="1408" y="185"/>
                  <a:pt x="1417" y="225"/>
                </a:cubicBezTo>
                <a:cubicBezTo>
                  <a:pt x="1425" y="259"/>
                  <a:pt x="1395" y="330"/>
                  <a:pt x="1430" y="330"/>
                </a:cubicBezTo>
                <a:cubicBezTo>
                  <a:pt x="1477" y="330"/>
                  <a:pt x="1490" y="259"/>
                  <a:pt x="1522" y="225"/>
                </a:cubicBezTo>
                <a:cubicBezTo>
                  <a:pt x="1564" y="180"/>
                  <a:pt x="1609" y="138"/>
                  <a:pt x="1653" y="94"/>
                </a:cubicBezTo>
                <a:cubicBezTo>
                  <a:pt x="1662" y="68"/>
                  <a:pt x="1656" y="0"/>
                  <a:pt x="1679" y="15"/>
                </a:cubicBezTo>
                <a:cubicBezTo>
                  <a:pt x="1718" y="41"/>
                  <a:pt x="1712" y="103"/>
                  <a:pt x="1732" y="146"/>
                </a:cubicBezTo>
                <a:cubicBezTo>
                  <a:pt x="1756" y="199"/>
                  <a:pt x="1784" y="251"/>
                  <a:pt x="1810" y="303"/>
                </a:cubicBezTo>
                <a:cubicBezTo>
                  <a:pt x="2073" y="140"/>
                  <a:pt x="1722" y="373"/>
                  <a:pt x="2046" y="81"/>
                </a:cubicBezTo>
                <a:cubicBezTo>
                  <a:pt x="2084" y="47"/>
                  <a:pt x="2133" y="28"/>
                  <a:pt x="2177" y="2"/>
                </a:cubicBezTo>
                <a:cubicBezTo>
                  <a:pt x="2190" y="46"/>
                  <a:pt x="2204" y="89"/>
                  <a:pt x="2216" y="133"/>
                </a:cubicBezTo>
                <a:cubicBezTo>
                  <a:pt x="2226" y="168"/>
                  <a:pt x="2209" y="251"/>
                  <a:pt x="2242" y="238"/>
                </a:cubicBezTo>
                <a:cubicBezTo>
                  <a:pt x="2284" y="221"/>
                  <a:pt x="2263" y="149"/>
                  <a:pt x="2281" y="107"/>
                </a:cubicBezTo>
                <a:cubicBezTo>
                  <a:pt x="2286" y="95"/>
                  <a:pt x="2299" y="90"/>
                  <a:pt x="2308" y="81"/>
                </a:cubicBezTo>
                <a:cubicBezTo>
                  <a:pt x="2583" y="104"/>
                  <a:pt x="2398" y="37"/>
                  <a:pt x="2478" y="225"/>
                </a:cubicBezTo>
                <a:cubicBezTo>
                  <a:pt x="2484" y="239"/>
                  <a:pt x="2490" y="192"/>
                  <a:pt x="2504" y="186"/>
                </a:cubicBezTo>
                <a:cubicBezTo>
                  <a:pt x="2515" y="181"/>
                  <a:pt x="2696" y="160"/>
                  <a:pt x="2700" y="159"/>
                </a:cubicBezTo>
                <a:cubicBezTo>
                  <a:pt x="2821" y="766"/>
                  <a:pt x="2664" y="1395"/>
                  <a:pt x="2766" y="2005"/>
                </a:cubicBezTo>
                <a:cubicBezTo>
                  <a:pt x="2762" y="2049"/>
                  <a:pt x="2778" y="2100"/>
                  <a:pt x="2753" y="2136"/>
                </a:cubicBezTo>
                <a:cubicBezTo>
                  <a:pt x="2663" y="2266"/>
                  <a:pt x="2549" y="2082"/>
                  <a:pt x="2478" y="2058"/>
                </a:cubicBezTo>
                <a:cubicBezTo>
                  <a:pt x="2408" y="2062"/>
                  <a:pt x="2337" y="2060"/>
                  <a:pt x="2268" y="2071"/>
                </a:cubicBezTo>
                <a:cubicBezTo>
                  <a:pt x="2253" y="2073"/>
                  <a:pt x="2243" y="2091"/>
                  <a:pt x="2229" y="2097"/>
                </a:cubicBezTo>
                <a:cubicBezTo>
                  <a:pt x="2213" y="2104"/>
                  <a:pt x="2194" y="2106"/>
                  <a:pt x="2177" y="2110"/>
                </a:cubicBezTo>
                <a:cubicBezTo>
                  <a:pt x="2138" y="2104"/>
                  <a:pt x="2026" y="2084"/>
                  <a:pt x="1993" y="2084"/>
                </a:cubicBezTo>
                <a:cubicBezTo>
                  <a:pt x="1944" y="2084"/>
                  <a:pt x="1897" y="2102"/>
                  <a:pt x="1849" y="2110"/>
                </a:cubicBezTo>
                <a:cubicBezTo>
                  <a:pt x="1759" y="2140"/>
                  <a:pt x="1666" y="2141"/>
                  <a:pt x="1574" y="2162"/>
                </a:cubicBezTo>
                <a:cubicBezTo>
                  <a:pt x="1286" y="2227"/>
                  <a:pt x="1542" y="2196"/>
                  <a:pt x="1142" y="2215"/>
                </a:cubicBezTo>
                <a:cubicBezTo>
                  <a:pt x="1010" y="2281"/>
                  <a:pt x="1035" y="2241"/>
                  <a:pt x="828" y="2228"/>
                </a:cubicBezTo>
                <a:cubicBezTo>
                  <a:pt x="693" y="2220"/>
                  <a:pt x="557" y="2219"/>
                  <a:pt x="422" y="2215"/>
                </a:cubicBezTo>
                <a:cubicBezTo>
                  <a:pt x="418" y="2176"/>
                  <a:pt x="432" y="2129"/>
                  <a:pt x="409" y="2097"/>
                </a:cubicBezTo>
                <a:cubicBezTo>
                  <a:pt x="394" y="2075"/>
                  <a:pt x="356" y="2094"/>
                  <a:pt x="331" y="2084"/>
                </a:cubicBezTo>
                <a:cubicBezTo>
                  <a:pt x="177" y="2024"/>
                  <a:pt x="193" y="2024"/>
                  <a:pt x="95" y="1927"/>
                </a:cubicBezTo>
                <a:cubicBezTo>
                  <a:pt x="0" y="1639"/>
                  <a:pt x="46" y="1283"/>
                  <a:pt x="121" y="984"/>
                </a:cubicBezTo>
                <a:cubicBezTo>
                  <a:pt x="125" y="932"/>
                  <a:pt x="131" y="879"/>
                  <a:pt x="134" y="827"/>
                </a:cubicBezTo>
                <a:cubicBezTo>
                  <a:pt x="140" y="727"/>
                  <a:pt x="142" y="626"/>
                  <a:pt x="148" y="526"/>
                </a:cubicBezTo>
                <a:cubicBezTo>
                  <a:pt x="154" y="430"/>
                  <a:pt x="145" y="212"/>
                  <a:pt x="292" y="212"/>
                </a:cubicBezTo>
                <a:close/>
              </a:path>
            </a:pathLst>
          </a:custGeom>
          <a:solidFill>
            <a:srgbClr val="c9ff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979640" y="692280"/>
            <a:ext cx="4572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Monotype Corsiva"/>
                <a:ea typeface="华文新魏"/>
              </a:rPr>
              <a:t>Lost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My 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  <a:ea typeface="华文新魏"/>
              </a:rPr>
              <a:t>school ID card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My name is To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Please call 685-60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"/>
          <p:cNvSpPr/>
          <p:nvPr/>
        </p:nvSpPr>
        <p:spPr>
          <a:xfrm rot="220800">
            <a:off x="2771280" y="1379520"/>
            <a:ext cx="2608560" cy="7923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990720" y="4800600"/>
            <a:ext cx="761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. What is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2. Who is the own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3. If you find the school ID card, what will you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726160" y="5300640"/>
            <a:ext cx="11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3924360" y="6165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 685-603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993120" y="4797360"/>
            <a:ext cx="30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A school ID card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rot="548400">
            <a:off x="179280" y="1341360"/>
            <a:ext cx="4348440" cy="26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s this your wat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Call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Alan </a:t>
            </a:r>
            <a:r>
              <a:rPr b="0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at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95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39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-7920" y="0"/>
            <a:ext cx="823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bulletin board notices and cir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rds from activity 1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 rot="436200">
            <a:off x="1331640" y="2636640"/>
            <a:ext cx="2928960" cy="1874520"/>
          </a:xfrm>
          <a:prstGeom prst="rect">
            <a:avLst/>
          </a:prstGeom>
          <a:solidFill>
            <a:srgbClr val="c9fff5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omega"/>
          <p:cNvPicPr/>
          <p:nvPr/>
        </p:nvPicPr>
        <p:blipFill>
          <a:blip r:embed="rId1"/>
          <a:stretch/>
        </p:blipFill>
        <p:spPr>
          <a:xfrm rot="440400">
            <a:off x="1619280" y="2636640"/>
            <a:ext cx="1876320" cy="1585800"/>
          </a:xfrm>
          <a:prstGeom prst="rect">
            <a:avLst/>
          </a:prstGeom>
          <a:ln w="0">
            <a:noFill/>
          </a:ln>
        </p:spPr>
      </p:pic>
      <p:sp>
        <p:nvSpPr>
          <p:cNvPr id="254" name="Oval 6"/>
          <p:cNvSpPr/>
          <p:nvPr/>
        </p:nvSpPr>
        <p:spPr>
          <a:xfrm rot="579000">
            <a:off x="3216240" y="1558440"/>
            <a:ext cx="1508040" cy="72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"/>
          <p:cNvSpPr/>
          <p:nvPr/>
        </p:nvSpPr>
        <p:spPr>
          <a:xfrm>
            <a:off x="4572000" y="1600200"/>
            <a:ext cx="4572000" cy="396252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3962520"/>
              <a:gd name="textAreaBottom" fmla="*/ 3962880 h 3962520"/>
            </a:gdLst>
            <a:ahLst/>
            <a:rect l="textAreaLeft" t="textAreaTop" r="textAreaRight" b="textAreaBottom"/>
            <a:pathLst>
              <a:path w="2873" h="3077">
                <a:moveTo>
                  <a:pt x="380" y="0"/>
                </a:moveTo>
                <a:cubicBezTo>
                  <a:pt x="841" y="96"/>
                  <a:pt x="1269" y="107"/>
                  <a:pt x="1741" y="118"/>
                </a:cubicBezTo>
                <a:cubicBezTo>
                  <a:pt x="1781" y="172"/>
                  <a:pt x="1886" y="357"/>
                  <a:pt x="1977" y="367"/>
                </a:cubicBezTo>
                <a:cubicBezTo>
                  <a:pt x="2081" y="378"/>
                  <a:pt x="2186" y="376"/>
                  <a:pt x="2291" y="380"/>
                </a:cubicBezTo>
                <a:cubicBezTo>
                  <a:pt x="2439" y="416"/>
                  <a:pt x="2560" y="412"/>
                  <a:pt x="2723" y="419"/>
                </a:cubicBezTo>
                <a:cubicBezTo>
                  <a:pt x="2790" y="576"/>
                  <a:pt x="2776" y="663"/>
                  <a:pt x="2789" y="851"/>
                </a:cubicBezTo>
                <a:cubicBezTo>
                  <a:pt x="2813" y="1213"/>
                  <a:pt x="2841" y="1576"/>
                  <a:pt x="2867" y="1938"/>
                </a:cubicBezTo>
                <a:cubicBezTo>
                  <a:pt x="2839" y="2049"/>
                  <a:pt x="2873" y="1930"/>
                  <a:pt x="2828" y="2043"/>
                </a:cubicBezTo>
                <a:cubicBezTo>
                  <a:pt x="2818" y="2068"/>
                  <a:pt x="2811" y="2095"/>
                  <a:pt x="2802" y="2121"/>
                </a:cubicBezTo>
                <a:cubicBezTo>
                  <a:pt x="2798" y="2134"/>
                  <a:pt x="2789" y="2160"/>
                  <a:pt x="2789" y="2160"/>
                </a:cubicBezTo>
                <a:cubicBezTo>
                  <a:pt x="2770" y="2291"/>
                  <a:pt x="2756" y="2421"/>
                  <a:pt x="2749" y="2553"/>
                </a:cubicBezTo>
                <a:cubicBezTo>
                  <a:pt x="2731" y="2894"/>
                  <a:pt x="2769" y="2766"/>
                  <a:pt x="2723" y="2907"/>
                </a:cubicBezTo>
                <a:cubicBezTo>
                  <a:pt x="2364" y="2897"/>
                  <a:pt x="2244" y="2879"/>
                  <a:pt x="1912" y="2894"/>
                </a:cubicBezTo>
                <a:cubicBezTo>
                  <a:pt x="1796" y="3005"/>
                  <a:pt x="1594" y="2921"/>
                  <a:pt x="1440" y="2972"/>
                </a:cubicBezTo>
                <a:cubicBezTo>
                  <a:pt x="1346" y="2878"/>
                  <a:pt x="1452" y="2958"/>
                  <a:pt x="1257" y="3051"/>
                </a:cubicBezTo>
                <a:cubicBezTo>
                  <a:pt x="1209" y="3074"/>
                  <a:pt x="1152" y="3068"/>
                  <a:pt x="1100" y="3077"/>
                </a:cubicBezTo>
                <a:cubicBezTo>
                  <a:pt x="1065" y="3033"/>
                  <a:pt x="1022" y="2995"/>
                  <a:pt x="995" y="2946"/>
                </a:cubicBezTo>
                <a:cubicBezTo>
                  <a:pt x="982" y="2923"/>
                  <a:pt x="1007" y="2875"/>
                  <a:pt x="982" y="2867"/>
                </a:cubicBezTo>
                <a:cubicBezTo>
                  <a:pt x="920" y="2847"/>
                  <a:pt x="851" y="2876"/>
                  <a:pt x="786" y="2880"/>
                </a:cubicBezTo>
                <a:cubicBezTo>
                  <a:pt x="755" y="2854"/>
                  <a:pt x="729" y="2822"/>
                  <a:pt x="694" y="2802"/>
                </a:cubicBezTo>
                <a:cubicBezTo>
                  <a:pt x="593" y="2743"/>
                  <a:pt x="380" y="2645"/>
                  <a:pt x="380" y="2645"/>
                </a:cubicBezTo>
                <a:cubicBezTo>
                  <a:pt x="276" y="2658"/>
                  <a:pt x="264" y="2656"/>
                  <a:pt x="197" y="2723"/>
                </a:cubicBezTo>
                <a:cubicBezTo>
                  <a:pt x="151" y="2863"/>
                  <a:pt x="211" y="2900"/>
                  <a:pt x="79" y="2710"/>
                </a:cubicBezTo>
                <a:cubicBezTo>
                  <a:pt x="42" y="2485"/>
                  <a:pt x="23" y="2257"/>
                  <a:pt x="0" y="2030"/>
                </a:cubicBezTo>
                <a:cubicBezTo>
                  <a:pt x="4" y="1737"/>
                  <a:pt x="6" y="1445"/>
                  <a:pt x="13" y="1152"/>
                </a:cubicBezTo>
                <a:cubicBezTo>
                  <a:pt x="14" y="1100"/>
                  <a:pt x="23" y="1047"/>
                  <a:pt x="26" y="995"/>
                </a:cubicBezTo>
                <a:cubicBezTo>
                  <a:pt x="38" y="776"/>
                  <a:pt x="16" y="532"/>
                  <a:pt x="118" y="328"/>
                </a:cubicBezTo>
                <a:cubicBezTo>
                  <a:pt x="127" y="276"/>
                  <a:pt x="135" y="223"/>
                  <a:pt x="144" y="171"/>
                </a:cubicBezTo>
                <a:cubicBezTo>
                  <a:pt x="146" y="161"/>
                  <a:pt x="159" y="61"/>
                  <a:pt x="170" y="53"/>
                </a:cubicBezTo>
                <a:cubicBezTo>
                  <a:pt x="183" y="44"/>
                  <a:pt x="276" y="19"/>
                  <a:pt x="301" y="14"/>
                </a:cubicBezTo>
                <a:cubicBezTo>
                  <a:pt x="327" y="9"/>
                  <a:pt x="380" y="0"/>
                  <a:pt x="380" y="0"/>
                </a:cubicBezTo>
                <a:close/>
              </a:path>
            </a:pathLst>
          </a:custGeom>
          <a:solidFill>
            <a:srgbClr val="c9ff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572000" y="1916280"/>
            <a:ext cx="457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la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Is that your comp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game in the </a:t>
            </a: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los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found </a:t>
            </a:r>
            <a:r>
              <a:rPr b="0" lang="en-US" sz="3200" spc="-1" strike="noStrike">
                <a:solidFill>
                  <a:srgbClr val="333399"/>
                </a:solidFill>
                <a:latin typeface="华文新魏"/>
                <a:ea typeface="华文新魏"/>
              </a:rPr>
              <a:t>case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122960" y="2637000"/>
            <a:ext cx="1944720" cy="792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 rot="579000">
            <a:off x="4500360" y="3357720"/>
            <a:ext cx="1223640" cy="792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0" y="4508640"/>
            <a:ext cx="46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sb. at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话号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这个号码打电话给某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211000" y="5734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and foun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失物招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Find the information (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找信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3" name="Text Box 25"/>
          <p:cNvSpPr/>
          <p:nvPr/>
        </p:nvSpPr>
        <p:spPr>
          <a:xfrm>
            <a:off x="2438280" y="213372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259092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590920" y="5181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95-35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6553080" y="2057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uter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685800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990720" y="380880"/>
            <a:ext cx="4967280" cy="2971800"/>
          </a:xfrm>
          <a:prstGeom prst="rect">
            <a:avLst/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Fou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 Note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is your noteboo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ease call 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hone # 235-028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635280" y="907920"/>
            <a:ext cx="2305080" cy="7938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4"/>
          <p:cNvSpPr/>
          <p:nvPr/>
        </p:nvSpPr>
        <p:spPr>
          <a:xfrm>
            <a:off x="4361040" y="2322360"/>
            <a:ext cx="4478040" cy="4459320"/>
          </a:xfrm>
          <a:custGeom>
            <a:avLst/>
            <a:gdLst>
              <a:gd name="textAreaLeft" fmla="*/ 0 w 4478040"/>
              <a:gd name="textAreaRight" fmla="*/ 4478400 w 4478040"/>
              <a:gd name="textAreaTop" fmla="*/ 0 h 4459320"/>
              <a:gd name="textAreaBottom" fmla="*/ 4459680 h 4459320"/>
            </a:gdLst>
            <a:ahLst/>
            <a:rect l="textAreaLeft" t="textAreaTop" r="textAreaRight" b="textAreaBottom"/>
            <a:pathLst>
              <a:path w="2821" h="2281">
                <a:moveTo>
                  <a:pt x="292" y="212"/>
                </a:moveTo>
                <a:cubicBezTo>
                  <a:pt x="309" y="273"/>
                  <a:pt x="293" y="357"/>
                  <a:pt x="344" y="395"/>
                </a:cubicBezTo>
                <a:cubicBezTo>
                  <a:pt x="377" y="420"/>
                  <a:pt x="418" y="357"/>
                  <a:pt x="449" y="330"/>
                </a:cubicBezTo>
                <a:cubicBezTo>
                  <a:pt x="506" y="282"/>
                  <a:pt x="551" y="222"/>
                  <a:pt x="606" y="172"/>
                </a:cubicBezTo>
                <a:cubicBezTo>
                  <a:pt x="647" y="134"/>
                  <a:pt x="693" y="103"/>
                  <a:pt x="737" y="68"/>
                </a:cubicBezTo>
                <a:cubicBezTo>
                  <a:pt x="777" y="148"/>
                  <a:pt x="812" y="302"/>
                  <a:pt x="868" y="356"/>
                </a:cubicBezTo>
                <a:cubicBezTo>
                  <a:pt x="928" y="234"/>
                  <a:pt x="953" y="166"/>
                  <a:pt x="1090" y="120"/>
                </a:cubicBezTo>
                <a:cubicBezTo>
                  <a:pt x="1125" y="261"/>
                  <a:pt x="1190" y="342"/>
                  <a:pt x="1208" y="487"/>
                </a:cubicBezTo>
                <a:cubicBezTo>
                  <a:pt x="1221" y="452"/>
                  <a:pt x="1230" y="415"/>
                  <a:pt x="1247" y="382"/>
                </a:cubicBezTo>
                <a:cubicBezTo>
                  <a:pt x="1270" y="336"/>
                  <a:pt x="1305" y="298"/>
                  <a:pt x="1326" y="251"/>
                </a:cubicBezTo>
                <a:cubicBezTo>
                  <a:pt x="1427" y="24"/>
                  <a:pt x="1301" y="222"/>
                  <a:pt x="1378" y="107"/>
                </a:cubicBezTo>
                <a:cubicBezTo>
                  <a:pt x="1391" y="146"/>
                  <a:pt x="1408" y="185"/>
                  <a:pt x="1417" y="225"/>
                </a:cubicBezTo>
                <a:cubicBezTo>
                  <a:pt x="1425" y="259"/>
                  <a:pt x="1395" y="330"/>
                  <a:pt x="1430" y="330"/>
                </a:cubicBezTo>
                <a:cubicBezTo>
                  <a:pt x="1477" y="330"/>
                  <a:pt x="1490" y="259"/>
                  <a:pt x="1522" y="225"/>
                </a:cubicBezTo>
                <a:cubicBezTo>
                  <a:pt x="1564" y="180"/>
                  <a:pt x="1609" y="138"/>
                  <a:pt x="1653" y="94"/>
                </a:cubicBezTo>
                <a:cubicBezTo>
                  <a:pt x="1662" y="68"/>
                  <a:pt x="1656" y="0"/>
                  <a:pt x="1679" y="15"/>
                </a:cubicBezTo>
                <a:cubicBezTo>
                  <a:pt x="1718" y="41"/>
                  <a:pt x="1712" y="103"/>
                  <a:pt x="1732" y="146"/>
                </a:cubicBezTo>
                <a:cubicBezTo>
                  <a:pt x="1756" y="199"/>
                  <a:pt x="1784" y="251"/>
                  <a:pt x="1810" y="303"/>
                </a:cubicBezTo>
                <a:cubicBezTo>
                  <a:pt x="2073" y="140"/>
                  <a:pt x="1722" y="373"/>
                  <a:pt x="2046" y="81"/>
                </a:cubicBezTo>
                <a:cubicBezTo>
                  <a:pt x="2084" y="47"/>
                  <a:pt x="2133" y="28"/>
                  <a:pt x="2177" y="2"/>
                </a:cubicBezTo>
                <a:cubicBezTo>
                  <a:pt x="2190" y="46"/>
                  <a:pt x="2204" y="89"/>
                  <a:pt x="2216" y="133"/>
                </a:cubicBezTo>
                <a:cubicBezTo>
                  <a:pt x="2226" y="168"/>
                  <a:pt x="2209" y="251"/>
                  <a:pt x="2242" y="238"/>
                </a:cubicBezTo>
                <a:cubicBezTo>
                  <a:pt x="2284" y="221"/>
                  <a:pt x="2263" y="149"/>
                  <a:pt x="2281" y="107"/>
                </a:cubicBezTo>
                <a:cubicBezTo>
                  <a:pt x="2286" y="95"/>
                  <a:pt x="2299" y="90"/>
                  <a:pt x="2308" y="81"/>
                </a:cubicBezTo>
                <a:cubicBezTo>
                  <a:pt x="2583" y="104"/>
                  <a:pt x="2398" y="37"/>
                  <a:pt x="2478" y="225"/>
                </a:cubicBezTo>
                <a:cubicBezTo>
                  <a:pt x="2484" y="239"/>
                  <a:pt x="2490" y="192"/>
                  <a:pt x="2504" y="186"/>
                </a:cubicBezTo>
                <a:cubicBezTo>
                  <a:pt x="2515" y="181"/>
                  <a:pt x="2696" y="160"/>
                  <a:pt x="2700" y="159"/>
                </a:cubicBezTo>
                <a:cubicBezTo>
                  <a:pt x="2821" y="766"/>
                  <a:pt x="2664" y="1395"/>
                  <a:pt x="2766" y="2005"/>
                </a:cubicBezTo>
                <a:cubicBezTo>
                  <a:pt x="2762" y="2049"/>
                  <a:pt x="2778" y="2100"/>
                  <a:pt x="2753" y="2136"/>
                </a:cubicBezTo>
                <a:cubicBezTo>
                  <a:pt x="2663" y="2266"/>
                  <a:pt x="2549" y="2082"/>
                  <a:pt x="2478" y="2058"/>
                </a:cubicBezTo>
                <a:cubicBezTo>
                  <a:pt x="2408" y="2062"/>
                  <a:pt x="2337" y="2060"/>
                  <a:pt x="2268" y="2071"/>
                </a:cubicBezTo>
                <a:cubicBezTo>
                  <a:pt x="2253" y="2073"/>
                  <a:pt x="2243" y="2091"/>
                  <a:pt x="2229" y="2097"/>
                </a:cubicBezTo>
                <a:cubicBezTo>
                  <a:pt x="2213" y="2104"/>
                  <a:pt x="2194" y="2106"/>
                  <a:pt x="2177" y="2110"/>
                </a:cubicBezTo>
                <a:cubicBezTo>
                  <a:pt x="2138" y="2104"/>
                  <a:pt x="2026" y="2084"/>
                  <a:pt x="1993" y="2084"/>
                </a:cubicBezTo>
                <a:cubicBezTo>
                  <a:pt x="1944" y="2084"/>
                  <a:pt x="1897" y="2102"/>
                  <a:pt x="1849" y="2110"/>
                </a:cubicBezTo>
                <a:cubicBezTo>
                  <a:pt x="1759" y="2140"/>
                  <a:pt x="1666" y="2141"/>
                  <a:pt x="1574" y="2162"/>
                </a:cubicBezTo>
                <a:cubicBezTo>
                  <a:pt x="1286" y="2227"/>
                  <a:pt x="1542" y="2196"/>
                  <a:pt x="1142" y="2215"/>
                </a:cubicBezTo>
                <a:cubicBezTo>
                  <a:pt x="1010" y="2281"/>
                  <a:pt x="1035" y="2241"/>
                  <a:pt x="828" y="2228"/>
                </a:cubicBezTo>
                <a:cubicBezTo>
                  <a:pt x="693" y="2220"/>
                  <a:pt x="557" y="2219"/>
                  <a:pt x="422" y="2215"/>
                </a:cubicBezTo>
                <a:cubicBezTo>
                  <a:pt x="418" y="2176"/>
                  <a:pt x="432" y="2129"/>
                  <a:pt x="409" y="2097"/>
                </a:cubicBezTo>
                <a:cubicBezTo>
                  <a:pt x="394" y="2075"/>
                  <a:pt x="356" y="2094"/>
                  <a:pt x="331" y="2084"/>
                </a:cubicBezTo>
                <a:cubicBezTo>
                  <a:pt x="177" y="2024"/>
                  <a:pt x="193" y="2024"/>
                  <a:pt x="95" y="1927"/>
                </a:cubicBezTo>
                <a:cubicBezTo>
                  <a:pt x="0" y="1639"/>
                  <a:pt x="46" y="1283"/>
                  <a:pt x="121" y="984"/>
                </a:cubicBezTo>
                <a:cubicBezTo>
                  <a:pt x="125" y="932"/>
                  <a:pt x="131" y="879"/>
                  <a:pt x="134" y="827"/>
                </a:cubicBezTo>
                <a:cubicBezTo>
                  <a:pt x="140" y="727"/>
                  <a:pt x="142" y="626"/>
                  <a:pt x="148" y="526"/>
                </a:cubicBezTo>
                <a:cubicBezTo>
                  <a:pt x="154" y="430"/>
                  <a:pt x="145" y="212"/>
                  <a:pt x="292" y="212"/>
                </a:cubicBezTo>
                <a:close/>
              </a:path>
            </a:pathLst>
          </a:custGeom>
          <a:solidFill>
            <a:srgbClr val="c9ff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4419720" y="3048120"/>
            <a:ext cx="4572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Monotype Corsiva"/>
                <a:ea typeface="华文新魏"/>
              </a:rPr>
              <a:t>Lost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My </a:t>
            </a:r>
            <a:r>
              <a:rPr b="0" lang="en-US" sz="3600" spc="-1" strike="noStrike">
                <a:solidFill>
                  <a:srgbClr val="333399"/>
                </a:solidFill>
                <a:latin typeface="Monotype Corsiva"/>
                <a:ea typeface="华文新魏"/>
              </a:rPr>
              <a:t>school ID card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My name is To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  <a:ea typeface="华文新魏"/>
              </a:rPr>
              <a:t>Please call 685-60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Find the information (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宋体"/>
              </a:rPr>
              <a:t>找信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25"/>
          <p:cNvSpPr/>
          <p:nvPr/>
        </p:nvSpPr>
        <p:spPr>
          <a:xfrm>
            <a:off x="2514600" y="19051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chool ID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6"/>
          <p:cNvSpPr/>
          <p:nvPr/>
        </p:nvSpPr>
        <p:spPr>
          <a:xfrm>
            <a:off x="2743200" y="3581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7"/>
          <p:cNvSpPr/>
          <p:nvPr/>
        </p:nvSpPr>
        <p:spPr>
          <a:xfrm>
            <a:off x="2438280" y="4952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85-60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6553080" y="2057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6781680" y="3581280"/>
            <a:ext cx="2210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6629400" y="5105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35-0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539640" y="1916280"/>
            <a:ext cx="8352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611280" y="2205000"/>
            <a:ext cx="3816360" cy="1809720"/>
          </a:xfrm>
          <a:custGeom>
            <a:avLst/>
            <a:gdLst>
              <a:gd name="textAreaLeft" fmla="*/ 0 w 3816360"/>
              <a:gd name="textAreaRight" fmla="*/ 3816720 w 3816360"/>
              <a:gd name="textAreaTop" fmla="*/ 0 h 1809720"/>
              <a:gd name="textAreaBottom" fmla="*/ 1810080 h 1809720"/>
            </a:gdLst>
            <a:ahLst/>
            <a:rect l="textAreaLeft" t="textAreaTop" r="textAreaRight" b="textAreaBottom"/>
            <a:pathLst>
              <a:path w="2006" h="958">
                <a:moveTo>
                  <a:pt x="163" y="130"/>
                </a:moveTo>
                <a:cubicBezTo>
                  <a:pt x="237" y="134"/>
                  <a:pt x="311" y="143"/>
                  <a:pt x="385" y="143"/>
                </a:cubicBezTo>
                <a:cubicBezTo>
                  <a:pt x="673" y="143"/>
                  <a:pt x="456" y="114"/>
                  <a:pt x="634" y="143"/>
                </a:cubicBezTo>
                <a:cubicBezTo>
                  <a:pt x="745" y="180"/>
                  <a:pt x="764" y="164"/>
                  <a:pt x="909" y="143"/>
                </a:cubicBezTo>
                <a:cubicBezTo>
                  <a:pt x="1124" y="0"/>
                  <a:pt x="914" y="130"/>
                  <a:pt x="1577" y="104"/>
                </a:cubicBezTo>
                <a:cubicBezTo>
                  <a:pt x="1656" y="101"/>
                  <a:pt x="1745" y="68"/>
                  <a:pt x="1825" y="51"/>
                </a:cubicBezTo>
                <a:cubicBezTo>
                  <a:pt x="2006" y="143"/>
                  <a:pt x="1858" y="397"/>
                  <a:pt x="1917" y="575"/>
                </a:cubicBezTo>
                <a:cubicBezTo>
                  <a:pt x="1913" y="632"/>
                  <a:pt x="1919" y="690"/>
                  <a:pt x="1904" y="745"/>
                </a:cubicBezTo>
                <a:cubicBezTo>
                  <a:pt x="1900" y="760"/>
                  <a:pt x="1880" y="767"/>
                  <a:pt x="1865" y="771"/>
                </a:cubicBezTo>
                <a:cubicBezTo>
                  <a:pt x="1789" y="792"/>
                  <a:pt x="1682" y="801"/>
                  <a:pt x="1603" y="811"/>
                </a:cubicBezTo>
                <a:cubicBezTo>
                  <a:pt x="1378" y="958"/>
                  <a:pt x="1064" y="842"/>
                  <a:pt x="817" y="837"/>
                </a:cubicBezTo>
                <a:cubicBezTo>
                  <a:pt x="606" y="849"/>
                  <a:pt x="413" y="862"/>
                  <a:pt x="202" y="850"/>
                </a:cubicBezTo>
                <a:cubicBezTo>
                  <a:pt x="33" y="794"/>
                  <a:pt x="83" y="838"/>
                  <a:pt x="19" y="771"/>
                </a:cubicBezTo>
                <a:cubicBezTo>
                  <a:pt x="1" y="717"/>
                  <a:pt x="0" y="736"/>
                  <a:pt x="19" y="667"/>
                </a:cubicBezTo>
                <a:cubicBezTo>
                  <a:pt x="26" y="640"/>
                  <a:pt x="45" y="588"/>
                  <a:pt x="45" y="588"/>
                </a:cubicBezTo>
                <a:cubicBezTo>
                  <a:pt x="52" y="535"/>
                  <a:pt x="66" y="484"/>
                  <a:pt x="71" y="431"/>
                </a:cubicBezTo>
                <a:cubicBezTo>
                  <a:pt x="78" y="348"/>
                  <a:pt x="60" y="261"/>
                  <a:pt x="84" y="182"/>
                </a:cubicBezTo>
                <a:cubicBezTo>
                  <a:pt x="93" y="152"/>
                  <a:pt x="137" y="147"/>
                  <a:pt x="163" y="13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8720" y="292572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 529-640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4859280" y="2349360"/>
            <a:ext cx="3503520" cy="1741680"/>
          </a:xfrm>
          <a:custGeom>
            <a:avLst/>
            <a:gdLst>
              <a:gd name="textAreaLeft" fmla="*/ 0 w 3503520"/>
              <a:gd name="textAreaRight" fmla="*/ 3503880 w 3503520"/>
              <a:gd name="textAreaTop" fmla="*/ 0 h 1741680"/>
              <a:gd name="textAreaBottom" fmla="*/ 1742040 h 1741680"/>
            </a:gdLst>
            <a:ahLst/>
            <a:rect l="textAreaLeft" t="textAreaTop" r="textAreaRight" b="textAreaBottom"/>
            <a:pathLst>
              <a:path w="2717" h="952">
                <a:moveTo>
                  <a:pt x="282" y="29"/>
                </a:moveTo>
                <a:cubicBezTo>
                  <a:pt x="570" y="25"/>
                  <a:pt x="858" y="0"/>
                  <a:pt x="1146" y="16"/>
                </a:cubicBezTo>
                <a:cubicBezTo>
                  <a:pt x="1401" y="30"/>
                  <a:pt x="1654" y="75"/>
                  <a:pt x="1905" y="121"/>
                </a:cubicBezTo>
                <a:cubicBezTo>
                  <a:pt x="2663" y="260"/>
                  <a:pt x="1804" y="166"/>
                  <a:pt x="2272" y="212"/>
                </a:cubicBezTo>
                <a:cubicBezTo>
                  <a:pt x="2333" y="208"/>
                  <a:pt x="2395" y="210"/>
                  <a:pt x="2455" y="199"/>
                </a:cubicBezTo>
                <a:cubicBezTo>
                  <a:pt x="2470" y="196"/>
                  <a:pt x="2479" y="175"/>
                  <a:pt x="2494" y="173"/>
                </a:cubicBezTo>
                <a:cubicBezTo>
                  <a:pt x="2568" y="162"/>
                  <a:pt x="2643" y="164"/>
                  <a:pt x="2717" y="160"/>
                </a:cubicBezTo>
                <a:cubicBezTo>
                  <a:pt x="2713" y="321"/>
                  <a:pt x="2715" y="483"/>
                  <a:pt x="2704" y="644"/>
                </a:cubicBezTo>
                <a:cubicBezTo>
                  <a:pt x="2701" y="685"/>
                  <a:pt x="2668" y="757"/>
                  <a:pt x="2625" y="775"/>
                </a:cubicBezTo>
                <a:cubicBezTo>
                  <a:pt x="2592" y="788"/>
                  <a:pt x="2555" y="784"/>
                  <a:pt x="2520" y="788"/>
                </a:cubicBezTo>
                <a:cubicBezTo>
                  <a:pt x="2280" y="784"/>
                  <a:pt x="2040" y="775"/>
                  <a:pt x="1800" y="775"/>
                </a:cubicBezTo>
                <a:cubicBezTo>
                  <a:pt x="1778" y="775"/>
                  <a:pt x="1754" y="777"/>
                  <a:pt x="1735" y="788"/>
                </a:cubicBezTo>
                <a:cubicBezTo>
                  <a:pt x="1432" y="952"/>
                  <a:pt x="1814" y="799"/>
                  <a:pt x="1525" y="906"/>
                </a:cubicBezTo>
                <a:cubicBezTo>
                  <a:pt x="1273" y="896"/>
                  <a:pt x="1041" y="872"/>
                  <a:pt x="792" y="841"/>
                </a:cubicBezTo>
                <a:cubicBezTo>
                  <a:pt x="731" y="815"/>
                  <a:pt x="672" y="782"/>
                  <a:pt x="609" y="762"/>
                </a:cubicBezTo>
                <a:cubicBezTo>
                  <a:pt x="437" y="707"/>
                  <a:pt x="563" y="778"/>
                  <a:pt x="452" y="736"/>
                </a:cubicBezTo>
                <a:cubicBezTo>
                  <a:pt x="398" y="716"/>
                  <a:pt x="366" y="683"/>
                  <a:pt x="308" y="671"/>
                </a:cubicBezTo>
                <a:cubicBezTo>
                  <a:pt x="221" y="653"/>
                  <a:pt x="46" y="618"/>
                  <a:pt x="46" y="618"/>
                </a:cubicBezTo>
                <a:cubicBezTo>
                  <a:pt x="37" y="588"/>
                  <a:pt x="24" y="558"/>
                  <a:pt x="20" y="527"/>
                </a:cubicBezTo>
                <a:cubicBezTo>
                  <a:pt x="0" y="389"/>
                  <a:pt x="4" y="288"/>
                  <a:pt x="46" y="160"/>
                </a:cubicBezTo>
                <a:cubicBezTo>
                  <a:pt x="61" y="116"/>
                  <a:pt x="88" y="69"/>
                  <a:pt x="138" y="55"/>
                </a:cubicBezTo>
                <a:cubicBezTo>
                  <a:pt x="185" y="41"/>
                  <a:pt x="234" y="38"/>
                  <a:pt x="282" y="29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5221800" y="263700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Davi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7667640" y="3141720"/>
            <a:ext cx="43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8"/>
          <p:cNvSpPr/>
          <p:nvPr/>
        </p:nvSpPr>
        <p:spPr>
          <a:xfrm>
            <a:off x="395280" y="3573360"/>
            <a:ext cx="6167520" cy="1800360"/>
          </a:xfrm>
          <a:custGeom>
            <a:avLst/>
            <a:gdLst>
              <a:gd name="textAreaLeft" fmla="*/ 0 w 6167520"/>
              <a:gd name="textAreaRight" fmla="*/ 6167880 w 61675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786" h="1577">
                <a:moveTo>
                  <a:pt x="258" y="511"/>
                </a:moveTo>
                <a:cubicBezTo>
                  <a:pt x="2786" y="614"/>
                  <a:pt x="1947" y="0"/>
                  <a:pt x="2235" y="864"/>
                </a:cubicBezTo>
                <a:cubicBezTo>
                  <a:pt x="2247" y="952"/>
                  <a:pt x="2275" y="999"/>
                  <a:pt x="2287" y="1087"/>
                </a:cubicBezTo>
                <a:cubicBezTo>
                  <a:pt x="2283" y="1131"/>
                  <a:pt x="2272" y="1174"/>
                  <a:pt x="2274" y="1218"/>
                </a:cubicBezTo>
                <a:cubicBezTo>
                  <a:pt x="2287" y="1517"/>
                  <a:pt x="2317" y="1284"/>
                  <a:pt x="2287" y="1466"/>
                </a:cubicBezTo>
                <a:cubicBezTo>
                  <a:pt x="1996" y="1460"/>
                  <a:pt x="1729" y="1473"/>
                  <a:pt x="1449" y="1427"/>
                </a:cubicBezTo>
                <a:cubicBezTo>
                  <a:pt x="998" y="1577"/>
                  <a:pt x="498" y="1445"/>
                  <a:pt x="22" y="1440"/>
                </a:cubicBezTo>
                <a:cubicBezTo>
                  <a:pt x="7" y="1321"/>
                  <a:pt x="0" y="1333"/>
                  <a:pt x="62" y="1244"/>
                </a:cubicBezTo>
                <a:cubicBezTo>
                  <a:pt x="66" y="1209"/>
                  <a:pt x="66" y="1173"/>
                  <a:pt x="75" y="1139"/>
                </a:cubicBezTo>
                <a:cubicBezTo>
                  <a:pt x="80" y="1120"/>
                  <a:pt x="96" y="1106"/>
                  <a:pt x="101" y="1087"/>
                </a:cubicBezTo>
                <a:cubicBezTo>
                  <a:pt x="114" y="1036"/>
                  <a:pt x="127" y="930"/>
                  <a:pt x="127" y="930"/>
                </a:cubicBezTo>
                <a:cubicBezTo>
                  <a:pt x="131" y="860"/>
                  <a:pt x="122" y="788"/>
                  <a:pt x="140" y="720"/>
                </a:cubicBezTo>
                <a:cubicBezTo>
                  <a:pt x="160" y="643"/>
                  <a:pt x="223" y="581"/>
                  <a:pt x="258" y="51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828360" y="4365720"/>
            <a:ext cx="40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set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keys. pl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0"/>
          <p:cNvSpPr/>
          <p:nvPr/>
        </p:nvSpPr>
        <p:spPr>
          <a:xfrm>
            <a:off x="5651640" y="4581360"/>
            <a:ext cx="3001680" cy="1152720"/>
          </a:xfrm>
          <a:custGeom>
            <a:avLst/>
            <a:gdLst>
              <a:gd name="textAreaLeft" fmla="*/ 0 w 3001680"/>
              <a:gd name="textAreaRight" fmla="*/ 3002040 w 30016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1770" h="814">
                <a:moveTo>
                  <a:pt x="262" y="157"/>
                </a:moveTo>
                <a:cubicBezTo>
                  <a:pt x="439" y="141"/>
                  <a:pt x="597" y="75"/>
                  <a:pt x="772" y="53"/>
                </a:cubicBezTo>
                <a:cubicBezTo>
                  <a:pt x="881" y="62"/>
                  <a:pt x="990" y="88"/>
                  <a:pt x="1099" y="79"/>
                </a:cubicBezTo>
                <a:cubicBezTo>
                  <a:pt x="1156" y="74"/>
                  <a:pt x="1202" y="29"/>
                  <a:pt x="1256" y="13"/>
                </a:cubicBezTo>
                <a:cubicBezTo>
                  <a:pt x="1290" y="3"/>
                  <a:pt x="1326" y="4"/>
                  <a:pt x="1361" y="0"/>
                </a:cubicBezTo>
                <a:cubicBezTo>
                  <a:pt x="1434" y="75"/>
                  <a:pt x="1510" y="50"/>
                  <a:pt x="1610" y="66"/>
                </a:cubicBezTo>
                <a:cubicBezTo>
                  <a:pt x="1628" y="140"/>
                  <a:pt x="1635" y="189"/>
                  <a:pt x="1675" y="249"/>
                </a:cubicBezTo>
                <a:cubicBezTo>
                  <a:pt x="1679" y="301"/>
                  <a:pt x="1677" y="355"/>
                  <a:pt x="1688" y="406"/>
                </a:cubicBezTo>
                <a:cubicBezTo>
                  <a:pt x="1691" y="418"/>
                  <a:pt x="1710" y="420"/>
                  <a:pt x="1715" y="432"/>
                </a:cubicBezTo>
                <a:cubicBezTo>
                  <a:pt x="1734" y="478"/>
                  <a:pt x="1738" y="529"/>
                  <a:pt x="1754" y="576"/>
                </a:cubicBezTo>
                <a:cubicBezTo>
                  <a:pt x="1750" y="615"/>
                  <a:pt x="1770" y="667"/>
                  <a:pt x="1741" y="694"/>
                </a:cubicBezTo>
                <a:cubicBezTo>
                  <a:pt x="1701" y="731"/>
                  <a:pt x="1638" y="727"/>
                  <a:pt x="1584" y="733"/>
                </a:cubicBezTo>
                <a:cubicBezTo>
                  <a:pt x="1480" y="744"/>
                  <a:pt x="1375" y="742"/>
                  <a:pt x="1270" y="746"/>
                </a:cubicBezTo>
                <a:cubicBezTo>
                  <a:pt x="1047" y="786"/>
                  <a:pt x="813" y="786"/>
                  <a:pt x="589" y="799"/>
                </a:cubicBezTo>
                <a:cubicBezTo>
                  <a:pt x="519" y="803"/>
                  <a:pt x="379" y="812"/>
                  <a:pt x="379" y="812"/>
                </a:cubicBezTo>
                <a:cubicBezTo>
                  <a:pt x="296" y="808"/>
                  <a:pt x="212" y="814"/>
                  <a:pt x="131" y="799"/>
                </a:cubicBezTo>
                <a:cubicBezTo>
                  <a:pt x="112" y="795"/>
                  <a:pt x="95" y="733"/>
                  <a:pt x="91" y="720"/>
                </a:cubicBezTo>
                <a:cubicBezTo>
                  <a:pt x="63" y="615"/>
                  <a:pt x="26" y="511"/>
                  <a:pt x="0" y="406"/>
                </a:cubicBezTo>
                <a:cubicBezTo>
                  <a:pt x="23" y="338"/>
                  <a:pt x="63" y="337"/>
                  <a:pt x="131" y="314"/>
                </a:cubicBezTo>
                <a:cubicBezTo>
                  <a:pt x="170" y="256"/>
                  <a:pt x="230" y="219"/>
                  <a:pt x="262" y="1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6084720" y="479736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7740720" y="4653000"/>
            <a:ext cx="71892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4932360" y="4365720"/>
            <a:ext cx="633240" cy="82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492360" y="2708280"/>
            <a:ext cx="576360" cy="1008360"/>
            <a:chOff x="3492360" y="2708280"/>
            <a:chExt cx="576360" cy="1008360"/>
          </a:xfrm>
        </p:grpSpPr>
        <p:sp>
          <p:nvSpPr>
            <p:cNvPr id="293" name="Rectangle 15"/>
            <p:cNvSpPr/>
            <p:nvPr/>
          </p:nvSpPr>
          <p:spPr>
            <a:xfrm>
              <a:off x="3492360" y="2939760"/>
              <a:ext cx="576360" cy="694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16"/>
            <p:cNvSpPr/>
            <p:nvPr/>
          </p:nvSpPr>
          <p:spPr>
            <a:xfrm>
              <a:off x="3494160" y="2708280"/>
              <a:ext cx="574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17"/>
          <p:cNvSpPr/>
          <p:nvPr/>
        </p:nvSpPr>
        <p:spPr>
          <a:xfrm>
            <a:off x="7742160" y="2708280"/>
            <a:ext cx="52380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762120" y="33336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3b. </a:t>
            </a:r>
            <a:r>
              <a:rPr b="1" lang="zh-CN" sz="3600" spc="-1" strike="noStrike">
                <a:solidFill>
                  <a:srgbClr val="333399"/>
                </a:solidFill>
                <a:latin typeface="Broadway BT"/>
                <a:ea typeface="黑体"/>
              </a:rPr>
              <a:t>拼盘比赛</a:t>
            </a:r>
            <a:r>
              <a:rPr b="1" lang="zh-CN" sz="2800" spc="-1" strike="noStrike">
                <a:solidFill>
                  <a:srgbClr val="000000"/>
                </a:solidFill>
                <a:latin typeface="Broadway B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Broadway BT"/>
              </a:rPr>
              <a:t>Put these pieces in order to make a message. Write numbers in the bo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9" descr="xs03gif251"/>
          <p:cNvPicPr/>
          <p:nvPr/>
        </p:nvPicPr>
        <p:blipFill>
          <a:blip r:embed="rId1"/>
          <a:stretch/>
        </p:blipFill>
        <p:spPr>
          <a:xfrm>
            <a:off x="1619280" y="4941720"/>
            <a:ext cx="1087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043"/>
          <p:cNvPicPr/>
          <p:nvPr/>
        </p:nvPicPr>
        <p:blipFill>
          <a:blip r:embed="rId1"/>
          <a:srcRect l="0" t="1836" r="0" b="0"/>
          <a:stretch/>
        </p:blipFill>
        <p:spPr>
          <a:xfrm>
            <a:off x="971640" y="2133720"/>
            <a:ext cx="6985080" cy="3913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3708360" y="2492280"/>
            <a:ext cx="373068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宋体"/>
              </a:rPr>
              <a:t>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LEPHONE NUMB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535-23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187280" y="30492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is is M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 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schoo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ID card. She lost it. Can you help her to write a lost no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日本MRK卡通女孩valen  - MRK可爱卡通女孩valen  Desktop Wallpaper of Cartoon Girl 9"/>
          <p:cNvPicPr/>
          <p:nvPr/>
        </p:nvPicPr>
        <p:blipFill>
          <a:blip r:embed="rId2"/>
          <a:srcRect l="3574" t="29170" r="61887" b="1051"/>
          <a:stretch/>
        </p:blipFill>
        <p:spPr>
          <a:xfrm>
            <a:off x="1476360" y="2924280"/>
            <a:ext cx="178272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2004730142531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2587680" y="1557360"/>
            <a:ext cx="4937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L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My school ID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My name is 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华文楷体"/>
                <a:ea typeface="华文楷体"/>
              </a:rPr>
              <a:t>Please call 535-23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34920" y="33336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据所给提示，完成下面的招领启事和寻物启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1428840" y="2214720"/>
            <a:ext cx="5238720" cy="301464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6"/>
          <p:cNvSpPr/>
          <p:nvPr/>
        </p:nvSpPr>
        <p:spPr>
          <a:xfrm>
            <a:off x="2771640" y="36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"/>
          <p:cNvSpPr/>
          <p:nvPr/>
        </p:nvSpPr>
        <p:spPr>
          <a:xfrm>
            <a:off x="2916360" y="2997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>
            <a:off x="2916360" y="429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476360" y="2492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476360" y="3213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47636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428472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>
            <a:off x="3276720" y="494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1189080" y="112536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捡到一个笔记本，失者可打电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5-680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292720" y="3213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1474920" y="4581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7" descr="artist_paint_lg_clr"/>
          <p:cNvPicPr/>
          <p:nvPr/>
        </p:nvPicPr>
        <p:blipFill>
          <a:blip r:embed="rId1"/>
          <a:stretch/>
        </p:blipFill>
        <p:spPr>
          <a:xfrm>
            <a:off x="7116840" y="3933720"/>
            <a:ext cx="1392120" cy="1793880"/>
          </a:xfrm>
          <a:prstGeom prst="rect">
            <a:avLst/>
          </a:prstGeom>
          <a:ln w="0">
            <a:noFill/>
          </a:ln>
        </p:spPr>
      </p:pic>
      <p:sp>
        <p:nvSpPr>
          <p:cNvPr id="318" name="WordArt 16"/>
          <p:cNvSpPr txBox="1"/>
          <p:nvPr/>
        </p:nvSpPr>
        <p:spPr>
          <a:xfrm>
            <a:off x="2268360" y="5373720"/>
            <a:ext cx="37609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棒球"/>
          <p:cNvPicPr/>
          <p:nvPr/>
        </p:nvPicPr>
        <p:blipFill>
          <a:blip r:embed="rId1"/>
          <a:stretch/>
        </p:blipFill>
        <p:spPr>
          <a:xfrm>
            <a:off x="0" y="304920"/>
            <a:ext cx="320040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687240" y="2362320"/>
            <a:ext cx="19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表"/>
          <p:cNvPicPr/>
          <p:nvPr/>
        </p:nvPicPr>
        <p:blipFill>
          <a:blip r:embed="rId2"/>
          <a:stretch/>
        </p:blipFill>
        <p:spPr>
          <a:xfrm>
            <a:off x="3276720" y="304920"/>
            <a:ext cx="2438280" cy="19238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736080" y="228600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身份证"/>
          <p:cNvPicPr/>
          <p:nvPr/>
        </p:nvPicPr>
        <p:blipFill>
          <a:blip r:embed="rId3"/>
          <a:stretch/>
        </p:blipFill>
        <p:spPr>
          <a:xfrm>
            <a:off x="6095880" y="304920"/>
            <a:ext cx="281952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6519240" y="2276640"/>
            <a:ext cx="185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354720" y="5546880"/>
            <a:ext cx="278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mputer     g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134160" y="5734080"/>
            <a:ext cx="21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84360" y="5373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RJB"/>
          <p:cNvPicPr/>
          <p:nvPr/>
        </p:nvPicPr>
        <p:blipFill>
          <a:blip r:embed="rId4"/>
          <a:stretch/>
        </p:blipFill>
        <p:spPr>
          <a:xfrm>
            <a:off x="3200400" y="350532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GAME"/>
          <p:cNvPicPr/>
          <p:nvPr/>
        </p:nvPicPr>
        <p:blipFill>
          <a:blip r:embed="rId5"/>
          <a:stretch/>
        </p:blipFill>
        <p:spPr>
          <a:xfrm>
            <a:off x="5638680" y="3505320"/>
            <a:ext cx="3095640" cy="2120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MCj02506000000[1]"/>
          <p:cNvPicPr/>
          <p:nvPr/>
        </p:nvPicPr>
        <p:blipFill>
          <a:blip r:embed="rId6"/>
          <a:stretch/>
        </p:blipFill>
        <p:spPr>
          <a:xfrm rot="1870800">
            <a:off x="734760" y="3592080"/>
            <a:ext cx="1679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468360" y="1209600"/>
            <a:ext cx="77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今丢失双肩背包一个，有拾到者可打电话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695-3059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David</a:t>
            </a:r>
            <a:r>
              <a:rPr b="1" i="1" lang="zh-CN" sz="3200" spc="-1" strike="noStrike">
                <a:solidFill>
                  <a:srgbClr val="0000ff"/>
                </a:solidFill>
                <a:latin typeface="Arial"/>
              </a:rPr>
              <a:t>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619280" y="2565360"/>
            <a:ext cx="5616720" cy="352764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2050920" y="2637000"/>
            <a:ext cx="3384720" cy="280620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2771640" y="37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2843280" y="450864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9"/>
          <p:cNvSpPr/>
          <p:nvPr/>
        </p:nvSpPr>
        <p:spPr>
          <a:xfrm>
            <a:off x="3492360" y="5229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4572000" y="414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av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5292720" y="486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5-305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3" descr="artist_paint_lg_clr"/>
          <p:cNvPicPr/>
          <p:nvPr/>
        </p:nvPicPr>
        <p:blipFill>
          <a:blip r:embed="rId1"/>
          <a:stretch/>
        </p:blipFill>
        <p:spPr>
          <a:xfrm>
            <a:off x="7116840" y="3933720"/>
            <a:ext cx="1392120" cy="1793880"/>
          </a:xfrm>
          <a:prstGeom prst="rect">
            <a:avLst/>
          </a:prstGeom>
          <a:ln w="0">
            <a:noFill/>
          </a:ln>
        </p:spPr>
      </p:pic>
      <p:sp>
        <p:nvSpPr>
          <p:cNvPr id="328" name="WordArt 11"/>
          <p:cNvSpPr txBox="1"/>
          <p:nvPr/>
        </p:nvSpPr>
        <p:spPr>
          <a:xfrm>
            <a:off x="1476360" y="189000"/>
            <a:ext cx="3760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bzqx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0" name="WordArt 3"/>
          <p:cNvSpPr txBox="1"/>
          <p:nvPr/>
        </p:nvSpPr>
        <p:spPr>
          <a:xfrm>
            <a:off x="755640" y="4653000"/>
            <a:ext cx="446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BYE BYE!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u=2264903725,2001265541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2492280"/>
            <a:ext cx="4321440" cy="2665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u=3392941279,2718059311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3789360"/>
            <a:ext cx="3456000" cy="25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u=1426895200,763381867&amp;gp=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716280"/>
            <a:ext cx="3111480" cy="2556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u=3971976145,4101348327&amp;gp=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476280"/>
            <a:ext cx="3382920" cy="273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u=2277049973,4249194028&amp;gp=2"/>
          <p:cNvPicPr/>
          <p:nvPr/>
        </p:nvPicPr>
        <p:blipFill>
          <a:blip r:embed="rId9"/>
          <a:stretch/>
        </p:blipFill>
        <p:spPr>
          <a:xfrm>
            <a:off x="4788000" y="549360"/>
            <a:ext cx="3382920" cy="309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3357_2"/>
          <p:cNvPicPr/>
          <p:nvPr/>
        </p:nvPicPr>
        <p:blipFill>
          <a:blip r:embed="rId10"/>
          <a:stretch/>
        </p:blipFill>
        <p:spPr>
          <a:xfrm>
            <a:off x="2340000" y="1773360"/>
            <a:ext cx="38955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 repeatCount="10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5" dur="1" fill="hold"/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0530262"/>
          <p:cNvPicPr/>
          <p:nvPr/>
        </p:nvPicPr>
        <p:blipFill>
          <a:blip r:embed="rId1"/>
          <a:stretch/>
        </p:blipFill>
        <p:spPr>
          <a:xfrm>
            <a:off x="0" y="0"/>
            <a:ext cx="2286000" cy="1851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0771GIF"/>
          <p:cNvPicPr/>
          <p:nvPr/>
        </p:nvPicPr>
        <p:blipFill>
          <a:blip r:embed="rId2"/>
          <a:stretch/>
        </p:blipFill>
        <p:spPr>
          <a:xfrm>
            <a:off x="2916360" y="0"/>
            <a:ext cx="2438280" cy="1844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360" y="191628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RJB"/>
          <p:cNvPicPr/>
          <p:nvPr/>
        </p:nvPicPr>
        <p:blipFill>
          <a:blip r:embed="rId3"/>
          <a:stretch/>
        </p:blipFill>
        <p:spPr>
          <a:xfrm>
            <a:off x="6516720" y="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6084720" y="198900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WATCH"/>
          <p:cNvPicPr/>
          <p:nvPr/>
        </p:nvPicPr>
        <p:blipFill>
          <a:blip r:embed="rId4"/>
          <a:stretch/>
        </p:blipFill>
        <p:spPr>
          <a:xfrm>
            <a:off x="0" y="2637000"/>
            <a:ext cx="2268360" cy="2087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95280" y="4724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GAME"/>
          <p:cNvPicPr/>
          <p:nvPr/>
        </p:nvPicPr>
        <p:blipFill>
          <a:blip r:embed="rId5"/>
          <a:stretch/>
        </p:blipFill>
        <p:spPr>
          <a:xfrm>
            <a:off x="2627280" y="285264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1619280" y="436572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ID card"/>
          <p:cNvPicPr/>
          <p:nvPr/>
        </p:nvPicPr>
        <p:blipFill>
          <a:blip r:embed="rId6"/>
          <a:stretch/>
        </p:blipFill>
        <p:spPr>
          <a:xfrm>
            <a:off x="6012000" y="2781360"/>
            <a:ext cx="2482560" cy="1511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3"/>
          <p:cNvSpPr/>
          <p:nvPr/>
        </p:nvSpPr>
        <p:spPr>
          <a:xfrm>
            <a:off x="6157080" y="443700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n ID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692360" y="5546880"/>
            <a:ext cx="7208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What’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his/that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in English? It’s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/an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How do you spell it? 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611280" y="1989000"/>
            <a:ext cx="7921440" cy="352764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KT592"/>
          <p:cNvPicPr/>
          <p:nvPr/>
        </p:nvPicPr>
        <p:blipFill>
          <a:blip r:embed="rId1"/>
          <a:stretch/>
        </p:blipFill>
        <p:spPr>
          <a:xfrm>
            <a:off x="1370160" y="1608120"/>
            <a:ext cx="1339560" cy="87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点击下载"/>
          <p:cNvPicPr/>
          <p:nvPr/>
        </p:nvPicPr>
        <p:blipFill>
          <a:blip r:embed="rId2"/>
          <a:stretch/>
        </p:blipFill>
        <p:spPr>
          <a:xfrm>
            <a:off x="4952880" y="1687680"/>
            <a:ext cx="1974960" cy="803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点击下载"/>
          <p:cNvPicPr/>
          <p:nvPr/>
        </p:nvPicPr>
        <p:blipFill>
          <a:blip r:embed="rId3"/>
          <a:stretch/>
        </p:blipFill>
        <p:spPr>
          <a:xfrm>
            <a:off x="2970360" y="1608120"/>
            <a:ext cx="1547640" cy="990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2121120" y="3716280"/>
            <a:ext cx="418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ST    and   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失物招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BS01863_"/>
          <p:cNvPicPr/>
          <p:nvPr/>
        </p:nvPicPr>
        <p:blipFill>
          <a:blip r:embed="rId1"/>
          <a:stretch/>
        </p:blipFill>
        <p:spPr>
          <a:xfrm>
            <a:off x="611280" y="692280"/>
            <a:ext cx="8137440" cy="5551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1438200" y="2708280"/>
            <a:ext cx="7705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Lost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寻物启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: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RJB"/>
          <p:cNvPicPr/>
          <p:nvPr/>
        </p:nvPicPr>
        <p:blipFill>
          <a:blip r:embed="rId2"/>
          <a:stretch/>
        </p:blipFill>
        <p:spPr>
          <a:xfrm>
            <a:off x="5580000" y="198900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1547640" y="33577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y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476720" y="4292640"/>
            <a:ext cx="67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eas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cal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Cind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t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6375214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692360" y="5084640"/>
            <a:ext cx="54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all +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某人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 at 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电话号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这个号码打电话给某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295280" y="609480"/>
            <a:ext cx="5181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Gungsuh"/>
                <a:ea typeface="Gungsuh"/>
              </a:rPr>
              <a:t>Is this your wat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ungsuh"/>
                <a:ea typeface="Gungsuh"/>
              </a:rPr>
              <a:t>Call</a:t>
            </a:r>
            <a:r>
              <a:rPr b="1" lang="en-US" sz="3600" spc="-1" strike="noStrike">
                <a:solidFill>
                  <a:srgbClr val="cc3300"/>
                </a:solidFill>
                <a:latin typeface="Gungsuh"/>
                <a:ea typeface="Gungsuh"/>
              </a:rPr>
              <a:t> John </a:t>
            </a:r>
            <a:r>
              <a:rPr b="1" lang="en-US" sz="3600" spc="-1" strike="noStrike">
                <a:solidFill>
                  <a:srgbClr val="0000ff"/>
                </a:solidFill>
                <a:latin typeface="Gungsuh"/>
                <a:ea typeface="Gungsuh"/>
              </a:rPr>
              <a:t>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Gungsuh"/>
                <a:ea typeface="Gungsuh"/>
              </a:rPr>
              <a:t>495-35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表1"/>
          <p:cNvPicPr/>
          <p:nvPr/>
        </p:nvPicPr>
        <p:blipFill>
          <a:blip r:embed="rId1"/>
          <a:stretch/>
        </p:blipFill>
        <p:spPr>
          <a:xfrm>
            <a:off x="2133720" y="2819520"/>
            <a:ext cx="3568680" cy="25905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2382480" y="0"/>
            <a:ext cx="292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ound(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拾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22480" y="-27000"/>
            <a:ext cx="68706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Century Gothic"/>
              </a:rPr>
              <a:t>LOST AND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85800" y="1828800"/>
            <a:ext cx="769608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f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Is this your watch? Call Alan at 495-353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000835"/>
          <p:cNvPicPr/>
          <p:nvPr/>
        </p:nvPicPr>
        <p:blipFill>
          <a:blip r:embed="rId1"/>
          <a:stretch/>
        </p:blipFill>
        <p:spPr>
          <a:xfrm>
            <a:off x="6372360" y="5877000"/>
            <a:ext cx="2016000" cy="70956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10"/>
          <p:cNvGrpSpPr/>
          <p:nvPr/>
        </p:nvGrpSpPr>
        <p:grpSpPr>
          <a:xfrm>
            <a:off x="6443640" y="0"/>
            <a:ext cx="2158920" cy="2158920"/>
            <a:chOff x="6443640" y="0"/>
            <a:chExt cx="2158920" cy="2158920"/>
          </a:xfrm>
        </p:grpSpPr>
        <p:pic>
          <p:nvPicPr>
            <p:cNvPr id="218" name="Picture 8" descr="2"/>
            <p:cNvPicPr/>
            <p:nvPr/>
          </p:nvPicPr>
          <p:blipFill>
            <a:blip r:embed="rId2"/>
            <a:stretch/>
          </p:blipFill>
          <p:spPr>
            <a:xfrm>
              <a:off x="6877080" y="0"/>
              <a:ext cx="12970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9"/>
            <p:cNvSpPr/>
            <p:nvPr/>
          </p:nvSpPr>
          <p:spPr>
            <a:xfrm>
              <a:off x="6443640" y="1519200"/>
              <a:ext cx="215892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遗失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招领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469080" y="4005360"/>
            <a:ext cx="45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f53"/>
                </a:solidFill>
                <a:latin typeface="Times New Roman"/>
              </a:rPr>
              <a:t>What does Alan fi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396720" y="4797360"/>
            <a:ext cx="54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f53"/>
                </a:solidFill>
                <a:latin typeface="Times New Roman"/>
              </a:rPr>
              <a:t>How can we get the wat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3851280" y="2421000"/>
            <a:ext cx="12254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5580000" y="2421000"/>
            <a:ext cx="2232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1116000" y="3068640"/>
            <a:ext cx="20160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521680" y="4005360"/>
            <a:ext cx="20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rebuchet MS"/>
              </a:rPr>
              <a:t>A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952200" y="5589720"/>
            <a:ext cx="50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rebuchet MS"/>
              </a:rPr>
              <a:t>Call Alan at 495-353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3708360" y="1916280"/>
            <a:ext cx="1440000" cy="576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022480" y="-27000"/>
            <a:ext cx="68706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Century Gothic"/>
              </a:rPr>
              <a:t>LOST AND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755640" y="1413000"/>
            <a:ext cx="7696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f5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Al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Is that your computer game in the lost and found 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                                               </a:t>
            </a:r>
            <a:r>
              <a:rPr b="0" lang="en-US" sz="3600" spc="-1" strike="noStrike">
                <a:solidFill>
                  <a:srgbClr val="002f53"/>
                </a:solidFill>
                <a:latin typeface="Comic Sans MS"/>
              </a:rPr>
              <a:t>N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logo000835"/>
          <p:cNvPicPr/>
          <p:nvPr/>
        </p:nvPicPr>
        <p:blipFill>
          <a:blip r:embed="rId1"/>
          <a:stretch/>
        </p:blipFill>
        <p:spPr>
          <a:xfrm>
            <a:off x="6443640" y="5950080"/>
            <a:ext cx="2016000" cy="70956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0"/>
          <p:cNvGrpSpPr/>
          <p:nvPr/>
        </p:nvGrpSpPr>
        <p:grpSpPr>
          <a:xfrm>
            <a:off x="6443640" y="0"/>
            <a:ext cx="2158920" cy="2158920"/>
            <a:chOff x="6443640" y="0"/>
            <a:chExt cx="2158920" cy="2158920"/>
          </a:xfrm>
        </p:grpSpPr>
        <p:pic>
          <p:nvPicPr>
            <p:cNvPr id="232" name="Picture 8" descr="2"/>
            <p:cNvPicPr/>
            <p:nvPr/>
          </p:nvPicPr>
          <p:blipFill>
            <a:blip r:embed="rId2"/>
            <a:stretch/>
          </p:blipFill>
          <p:spPr>
            <a:xfrm>
              <a:off x="6877080" y="0"/>
              <a:ext cx="12970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9"/>
            <p:cNvSpPr/>
            <p:nvPr/>
          </p:nvSpPr>
          <p:spPr>
            <a:xfrm>
              <a:off x="6443640" y="1519200"/>
              <a:ext cx="215892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遗失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招领启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756360" y="45813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fou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found i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4364640" y="4508640"/>
            <a:ext cx="43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rebuchet MS"/>
              </a:rPr>
              <a:t>A computer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487760" y="515772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rebuchet MS"/>
              </a:rPr>
              <a:t>N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2T12:03:34Z</dcterms:created>
  <dc:creator>Administrator</dc:creator>
  <dc:description/>
  <dc:language>en-US</dc:language>
  <cp:lastModifiedBy>Administrator</cp:lastModifiedBy>
  <dcterms:modified xsi:type="dcterms:W3CDTF">2015-12-02T12:1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